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A08-2AC8-407C-B2E6-40E02819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D5F-0BE8-4609-8A52-0C2F678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653-0F55-468F-9879-E6DA1745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5DF-0CF2-4209-A0E7-52103C6E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7AB-2932-42F8-A577-20A0D729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447-A792-4CA2-AA25-721AC97E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C02-B9B4-40B3-BFAE-9DBA55D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980-ADDB-47C1-82EA-17F099A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536-C50F-4056-B350-E86BD14A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65F-E875-4D42-BCBC-716BED3E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E73-B607-470E-A906-DCC5C09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44F-70C3-43A4-82EB-441B9A6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81DC-212A-404E-8098-C69A222B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’ rebellion: The failure that changed the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. Joe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aniel_shays-mdm"/>
          <p:cNvPicPr/>
          <p:nvPr/>
        </p:nvPicPr>
        <p:blipFill>
          <a:blip r:embed="rId1"/>
          <a:stretch/>
        </p:blipFill>
        <p:spPr>
          <a:xfrm>
            <a:off x="0" y="1447920"/>
            <a:ext cx="466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 will be able to state if the rebellion was success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onument_to_shays_rebell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20:27Z</dcterms:created>
  <dc:creator>Mount Lebanon School District</dc:creator>
  <dc:description/>
  <dc:language>en-US</dc:language>
  <cp:lastModifiedBy>janderson85</cp:lastModifiedBy>
  <dcterms:modified xsi:type="dcterms:W3CDTF">2010-12-02T16:05:29Z</dcterms:modified>
  <cp:revision>3</cp:revision>
  <dc:subject/>
  <dc:title>Shays’ rebellion: The failure that changed the colonies</dc:title>
</cp:coreProperties>
</file>